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818-0736-495F-A0E5-D5E4E81B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0FA-183A-41EF-A8F2-5248BB3D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D98-51ED-4F1C-9FF9-7B173606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B8C-ED49-4AF3-8FF5-6A6B7286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6C4-C16A-4F47-925C-15DCFA60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673-E8C6-4D96-88D2-A0EF9977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B4C-E26A-4722-82A6-F03D53F2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DFC-07E3-4F04-8418-B06EDE40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BEB-E129-470D-9D12-73209ACC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855-9DAF-45D7-9775-8A28226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2F2-DF8B-4E85-A2F4-708D92A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013-BFF4-4281-8B6C-E906181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7EA-FFBB-4234-A48C-2E71E980A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380880"/>
            <a:ext cx="1828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3520"/>
            <a:ext cx="2438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.security.auth.Main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6858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1447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ec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4" idx="2"/>
            <a:endCxn id="45" idx="0"/>
          </p:cNvCxnSpPr>
          <p:nvPr/>
        </p:nvCxnSpPr>
        <p:spPr>
          <a:xfrm>
            <a:off x="4038480" y="1905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5562720" y="76212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_jaas.conf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80880"/>
            <a:ext cx="19810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UserLogin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3"/>
            <a:endCxn id="47" idx="1"/>
          </p:cNvCxnSpPr>
          <p:nvPr/>
        </p:nvCxnSpPr>
        <p:spPr>
          <a:xfrm>
            <a:off x="4724280" y="914400"/>
            <a:ext cx="8388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000" y="914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3920" y="1676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914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808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Thread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18288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2362320"/>
            <a:ext cx="1371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Princi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657600"/>
            <a:ext cx="32763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86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e Coman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rExplorer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029200"/>
            <a:ext cx="1676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096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0384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Class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5" idx="1"/>
            <a:endCxn id="59" idx="3"/>
          </p:cNvCxnSpPr>
          <p:nvPr/>
        </p:nvCxnSpPr>
        <p:spPr>
          <a:xfrm flipH="1">
            <a:off x="2666880" y="243828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9" idx="2"/>
            <a:endCxn id="57" idx="0"/>
          </p:cNvCxnSpPr>
          <p:nvPr/>
        </p:nvCxnSpPr>
        <p:spPr>
          <a:xfrm>
            <a:off x="1752480" y="2666880"/>
            <a:ext cx="3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7" idx="3"/>
            <a:endCxn id="60" idx="1"/>
          </p:cNvCxnSpPr>
          <p:nvPr/>
        </p:nvCxnSpPr>
        <p:spPr>
          <a:xfrm>
            <a:off x="2514600" y="4267080"/>
            <a:ext cx="1752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6668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cio un 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657600"/>
            <a:ext cx="20574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886200"/>
            <a:ext cx="1524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502920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ion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0" idx="3"/>
            <a:endCxn id="66" idx="1"/>
          </p:cNvCxnSpPr>
          <p:nvPr/>
        </p:nvCxnSpPr>
        <p:spPr>
          <a:xfrm>
            <a:off x="5715000" y="426708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3T14:14:17Z</dcterms:created>
  <dc:creator>Mario Zambrini</dc:creator>
  <dc:description/>
  <dc:language>en-US</dc:language>
  <cp:lastModifiedBy>Mario Zambrini</cp:lastModifiedBy>
  <dcterms:modified xsi:type="dcterms:W3CDTF">1999-12-23T14:42:56Z</dcterms:modified>
  <cp:revision>2</cp:revision>
  <dc:subject/>
  <dc:title>Nessun titolo diapositiva</dc:title>
</cp:coreProperties>
</file>